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0D9-F1BA-454A-AE0B-DB030343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575-7DC3-4BA1-8B0F-94E8AD6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D24-1141-4104-ABB8-F2152E79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428-4A32-461A-A7F3-DFF9ECF6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75E-7451-454C-9CD7-7FF050C9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DE4-C296-4262-B619-3BED5A1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1F2-574B-40BF-973D-BF04B20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AD5-F138-4E7E-80B0-4AAE108D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CD3-5565-4995-9363-6F72B575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988-C954-4286-90D4-8B19AD4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31B-68BE-4CB8-AD9B-6B1C818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70F-D48A-44B0-B0B7-5F7707A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51C8-67D5-402C-8538-DB63486E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932440" cy="135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7696080" cy="95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2133720"/>
            <a:ext cx="4114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838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4:51Z</dcterms:created>
  <dc:creator>Graham</dc:creator>
  <dc:description/>
  <dc:language>en-US</dc:language>
  <cp:lastModifiedBy>Graham</cp:lastModifiedBy>
  <dcterms:modified xsi:type="dcterms:W3CDTF">2012-09-30T18:44:55Z</dcterms:modified>
  <cp:revision>1</cp:revision>
  <dc:subject/>
  <dc:title>Slide 1</dc:title>
</cp:coreProperties>
</file>